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0A3E-B68C-4814-AE36-5E89D90A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1EC-6C73-4B8E-AC7A-7B57DC78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559-E021-4086-A3D7-20489CA8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98A-0F11-41CC-8660-84391F60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F27-5E60-4B61-9A94-43BF89C4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D6B-0AF1-4CDB-9F81-5DF4043A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99F-117A-449C-B692-55EDC24C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6AB-5C52-44FC-9525-A65A6965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F2B-4D02-413D-B2D7-DD5DF2E6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0F9-1CC2-447B-8FED-CA0D3E1C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C0A6-C5AE-46F0-BE4F-66AC1350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6E02-2D50-45D7-A23F-A80A6D70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2B34-A846-4D1B-B5C0-09DF4349F4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Conditionals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if claus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expresses a condition that i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ot tru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at the present time.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condition might be highly unlikely or impossible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result claus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tells what would happen if thi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ntrue condition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were true.  It expresses the imagined result of an imagined condition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f I were a cat, I would sleep all day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f I had time, I would study another language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f I had a lot of money, ….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f I were you, I wouldn’t worry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4) </a:t>
            </a: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Past unreal conditiona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used to talk about conditions that were not true in the pa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xpress the imagined result of an imagined condition in the p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Past unreal conditional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have a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st perfect form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of verb in the </a:t>
            </a:r>
            <a:r>
              <a:rPr b="0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If claus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and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ould/could/might + have + past participl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of the verb in </a:t>
            </a:r>
            <a:r>
              <a:rPr b="0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the result claus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f claus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of the past unreal conditional expresses a condition that was not true in the past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sult claus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tells what would have happened  if the untrue condition had been true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Factual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 temperatur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fall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below 32 degrees F., water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freeze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ntin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rain, ther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ill b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fl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Present unre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e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, I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ould wat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weather forec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Past unre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ad studi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ould ha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s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t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entences contain two clauses:</a:t>
            </a:r>
            <a:br>
              <a:rPr sz="4000"/>
            </a:br>
            <a:r>
              <a:rPr b="0" lang="en-US" sz="4000" spc="-1" strike="noStrike" u="sng">
                <a:solidFill>
                  <a:srgbClr val="468a4b"/>
                </a:solidFill>
                <a:uFillTx/>
                <a:latin typeface="Arial"/>
              </a:rPr>
              <a:t>the condition claus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(if clause)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d</a:t>
            </a:r>
            <a:br>
              <a:rPr sz="4000"/>
            </a:br>
            <a:r>
              <a:rPr b="0" lang="en-US" sz="4000" spc="-1" strike="noStrike" u="sng">
                <a:solidFill>
                  <a:srgbClr val="468a4b"/>
                </a:solidFill>
                <a:uFillTx/>
                <a:latin typeface="Arial"/>
              </a:rPr>
              <a:t>the result claus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onditional sentences show a relationship between a condition and a result of the condi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esent unreal conditional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, the condition and result are sometimes highly unlikely but possible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st conditional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, the condition and therefore the result is never possibl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you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re coming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tonight, w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uld go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to a movie (highly unlikely, but possible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ou had com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last night, w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uld have gon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to a movie. (impossible; you didn’t come last night.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Other forms of conditional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mixed conditional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”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onditions in one time can relate to results in another tim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d studied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something practical, 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uld be making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more money now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Inverted conditional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more formal)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if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is omitted and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r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ould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, or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is moved before the subject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I wer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happy =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re I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happy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he should call =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ould h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call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I had known =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d I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know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If so, if not</a:t>
            </a:r>
            <a:br>
              <a:rPr sz="4000"/>
            </a:b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condition is clear from a previous sentence.  It is not necessary to repeat the entire condition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 should pass all my courses this semester. 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If not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, I’ll enroll in summer school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Hope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s about what is possible (like factual and future conditionals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 hope I can come to the picnic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Wish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Wish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s about what is not likely or not possible.</a:t>
            </a:r>
            <a:br>
              <a:rPr sz="40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Wish about the present or futur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ish + past form of verb or would or could + base form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e wishes h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more money.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ish about the past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: wish + past perfect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e wish you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d been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here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Alternatives to IF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the event, providing, provided, as long as, whether or not, even if, only if, un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 will pass my exam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nly if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I study.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 will fail my exam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nles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I study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nly if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it rains,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ll w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cancel the picnic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nly if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he ask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 I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help her 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ether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I pass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 not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, I am going to Columbia in June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s long a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he ‘s going to be there, I’ll be there too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bf1"/>
                </a:solidFill>
                <a:uFillTx/>
                <a:latin typeface="Arial"/>
              </a:rPr>
              <a:t>Implied condi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th, without, or else, other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1) </a:t>
            </a: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factual conditionals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 general truths, habits, and logical possibilitie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or past in both cl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 I have money, I spend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Wit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proper identification, you can board the plane.</a:t>
            </a:r>
            <a:br>
              <a:rPr sz="40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Without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proper documentation, you can’t take the test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e will go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or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I won’t stay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e will go. 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Otherwise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, I am leaving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End!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If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a bird is happy, it sings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ou see a lot of bears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if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you live in Montana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y cat moves her tail a lot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if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she’s nervous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f I needed help, she gave it to me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2) </a:t>
            </a: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future conditiona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 conditions and results in the future.  The</a:t>
            </a:r>
            <a:r>
              <a:rPr b="0" lang="en-US" sz="2400" spc="-1" strike="noStrike">
                <a:solidFill>
                  <a:srgbClr val="468a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cl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in the present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resul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in the future with </a:t>
            </a:r>
            <a:r>
              <a:rPr b="0" lang="en-US" sz="2400" spc="-1" strike="noStrike">
                <a:solidFill>
                  <a:srgbClr val="468a4b"/>
                </a:solidFill>
                <a:latin typeface="Arial"/>
              </a:rPr>
              <a:t>will or be going 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it rains tomorrow, we won’t go to the p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uture conditionals express what will happen in the future if certain conditions occur. They are often used to make predictions, plans, offers, suggestions request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f you study, you’ll pass the test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f you go to New York  next week, you’ll see the show.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3) </a:t>
            </a:r>
            <a:r>
              <a:rPr b="1" lang="en-US" sz="4400" spc="-1" strike="noStrike">
                <a:solidFill>
                  <a:srgbClr val="e3ebf1"/>
                </a:solidFill>
                <a:latin typeface="Arial"/>
              </a:rPr>
              <a:t>Present unreal conditional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used to talk about conditions that are not true in the pres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the imagined results of these cond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Present unreal conditionals have a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past form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of the verb in the</a:t>
            </a:r>
            <a:r>
              <a:rPr b="0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 if 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lause and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ould/could/might + base form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 the </a:t>
            </a:r>
            <a:r>
              <a:rPr b="0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result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clause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f w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ha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a car, w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would drive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to the mall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Wer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is used for all persons of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in the </a:t>
            </a:r>
            <a:r>
              <a:rPr b="0" lang="en-US" sz="4000" spc="-1" strike="noStrike" u="sng">
                <a:solidFill>
                  <a:srgbClr val="e3ebf1"/>
                </a:solidFill>
                <a:uFillTx/>
                <a:latin typeface="Arial"/>
              </a:rPr>
              <a:t>if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clause.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I, you, she, he, we, they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r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re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the teacher, I’d give a lot less homework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7:58:08Z</dcterms:created>
  <dc:creator>staff</dc:creator>
  <dc:description/>
  <dc:language>en-US</dc:language>
  <cp:lastModifiedBy>User</cp:lastModifiedBy>
  <dcterms:modified xsi:type="dcterms:W3CDTF">2009-02-08T15:23:47Z</dcterms:modified>
  <cp:revision>13</cp:revision>
  <dc:subject/>
  <dc:title>Conditionals</dc:title>
</cp:coreProperties>
</file>